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EB1-88AE-497A-B480-CFE24A33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74C-AA85-4558-9183-AE09AFCD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D2E-B02E-45D8-BEC5-2A42CE84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38B-2D16-4775-82E4-5A94315A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A8E-3E3A-497E-ACAD-4CC1248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FF5-293A-4AD1-B991-C2652F3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E88-51E2-4187-825D-D63E075A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7EC-0ACA-40AA-8D30-AA83211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10B-80B5-41C7-B96A-6F8CDB50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AE7-93AC-4BDA-9056-C2C2E19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08E-2512-40ED-BD70-1BFF0F7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901-6B71-4615-B808-6EEBDBA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DD4-AF10-4A77-BAB1-000FB0E9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16002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more efficient use of electricity in heating and cooling systems, lighting, appliances, and electronic equi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236232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end-use efficiency, meaning that we design building and businesses to use far less energy than they currently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304812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increased vehicle efficiency by manufacturing cars that run on less gas and putting more hybrid and fuel-cell cars on the ro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3809880"/>
            <a:ext cx="2514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making other changes in transport efficiency, such as designing cities and town to have better mass transit systems and building heavy trucks that have greater fuel effici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7242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increased reliance on renewable energy technologies that already exist, such as wind and biofu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from the capture and storage of excess carbon from power plants and industrial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6437160" cy="56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117720" cy="11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17720" cy="11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553080" y="3886200"/>
            <a:ext cx="117720" cy="111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30320" cy="1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553080" y="4800600"/>
            <a:ext cx="130320" cy="12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553080" y="5410080"/>
            <a:ext cx="125640" cy="12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66438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“An Inconvenient Truth,” Al Gore, NRDC/ From Pacala and Soco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zation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808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bon Emissions in bi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3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1667 0 E">
                                      <p:cBhvr>
                                        <p:cTn id="4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zation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666880"/>
            <a:ext cx="403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8006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562720"/>
            <a:ext cx="3962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4760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147600" cy="13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2362320"/>
            <a:ext cx="162000" cy="1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5257800"/>
            <a:ext cx="162000" cy="15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0" y="6095880"/>
            <a:ext cx="15732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04920" y="1066680"/>
          <a:ext cx="8686800" cy="56368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fficient heating and cooling systems, lighting, appliances, and electronic equip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 efficiency (design buildings and businesses to use far less energy than they currently 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vehicle efficiency (cars that run on less gas, and more hybrid and fuel-cell c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other changes in transport efficiency (better mass transit systems and heavy trucks that use less fu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renewable energy (wind, solar and biofue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ure and store carbon from power plants and fac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648320" y="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oing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3716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Policy Act of 2005: Titles 1, 9, &amp;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3623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Act: Titles 1, 9, &amp;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2004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Act: Titles 7, 8, 9, 13, &amp; 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.R. 5359 goes even fur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4267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Act: Titles 7 &amp;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181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Act: Titles 2, 7, 8, 9, 12, 13, 15, 16, 17, &amp;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6095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Act: Titles 4, 9, &amp;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267080" y="1523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4267080" y="24382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4267080" y="335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267080" y="4343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4267080" y="5257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267080" y="617220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1:13:03Z</dcterms:created>
  <dc:creator>mseeds</dc:creator>
  <dc:description/>
  <dc:language>en-US</dc:language>
  <cp:lastModifiedBy>U.S. House of Representatives</cp:lastModifiedBy>
  <dcterms:modified xsi:type="dcterms:W3CDTF">2007-03-21T21:46:58Z</dcterms:modified>
  <cp:revision>34</cp:revision>
  <dc:subject/>
  <dc:title>Slide 1</dc:title>
</cp:coreProperties>
</file>